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C45-1895-4098-BA10-0B3DC362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3D1-3DDB-42A5-B36A-08B9979E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6C83-69FC-4507-8265-67E19DCB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E54-9AD1-4009-A26A-B31C3266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A679-B79C-4DDC-9DCB-BA9EC3BE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1F3B-A08B-4342-B35E-E16175C7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C4B-BCE6-49BF-B018-CBE7166E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BDC3-FC00-4421-A376-77B5E9B5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ED9B-98C5-473D-8384-E4AA1666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B07D-0F65-443C-80B6-6DC7432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71E9-4D9B-48C9-BBF6-2A34EA1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DE23-057B-4C4A-BE22-070392B5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0730-A4D7-4E45-A2AB-060A514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734F-E192-4DB3-B919-78EF4CA9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96D0-0D31-4361-B4E2-49E62679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8252-D317-4D5B-A30E-EA44E0CC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499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8D15-D098-45F5-9757-30539CE2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0BB-00F5-4DE6-8B11-BF47239C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67D-0738-468D-8D8D-7DA95D73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47D-5D37-4AAD-8DAD-AABA5BC6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2C6-F988-4C4D-AFA1-7F9D57DA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A67-41FE-44E2-A393-DA5ED9F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99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64C-AE4F-4484-B1D0-B019A1AE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99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492-C136-4183-B0DD-BD9528C1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8F50-35B0-4D83-AB67-8786860F94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167C-352C-458B-ABAB-4B1ABAA4F1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Palatino"/>
              </a:rPr>
              <a:t>Genome reannotation:</a:t>
            </a:r>
            <a:br>
              <a:rPr sz="6000"/>
            </a:br>
            <a:endParaRPr b="1" lang="en-US" sz="60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Palatino"/>
              </a:rPr>
              <a:t>Dealing with the atypical, the ambiguous, and the contrary</a:t>
            </a:r>
            <a:endParaRPr b="0" lang="en-US" sz="4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omments for validation flag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usual splic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intr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verlaps transpos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Unconventional translation star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ultiphase ex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icistron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annotation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ategorized as problematic/provision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d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 only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gene fragment”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s capture of the ORF without condoning the gene mode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739116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he dubious transcript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 transcrip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; distinguish between: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relative to cDNA length (stops throughout; no long ORF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hort CDS (previous case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138240"/>
            <a:ext cx="84582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Release 3.2 contributor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Kathy Campbell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ynn Crosb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everley Matthew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Andy Schroede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Brian Bettencour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Yanmei Hu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yla Bayraktarogl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avel Hradeck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Gillian Millburn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ima Misra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hris Smi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leanor Whitfiel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eili Zhang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Pinglei Zhou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Annotated, but…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hird transcript classifi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be exclud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learly flagg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Truncated ORF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pported by single cDNA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Suspect cDNA: possible unspliced intron”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Transcript confidence ratings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ata typ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358720"/>
            <a:ext cx="784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NA data (complete/partial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homology/protein domain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lagged as problematic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 system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Yes/no indication for each different level of supporting data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Flexible and open-end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Can be dense and nuanced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latino"/>
              </a:rPr>
              <a:t>Users can easily set different combinations of criteria for bulk data sets</a:t>
            </a: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cDNA and EST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structure support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TRs supported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full-length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DS supported (partial)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anscript overlaps cDNA(s) or EST(s)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supporting protein data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Homologous protei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High scoring of similar length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Less similar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Indication of taxonomic range?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omplete protein domain(s) identifie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cont.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Gene prediction(s) 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blematic: [CV]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Short CDS; possible gene fragment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Truncated CD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ossible pseudogene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CDS overlap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Evidence tally: open -ended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153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Experimental determination of 5’ end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Norther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ORFeome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Microarray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In situ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Protein expression data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Dealing with the messy o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llow provisional/problematic annotation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Minimize biases of current knowledg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an exclude from rigorous data sets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scribe and categorize using controlled comments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Fold into a transcript rating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Evidence tallying system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latino"/>
              </a:rPr>
              <a:t>Bottom lines</a:t>
            </a:r>
            <a:endParaRPr b="1" lang="en-US" sz="4400" spc="-1" strike="noStrike">
              <a:solidFill>
                <a:srgbClr val="e5e5ff"/>
              </a:solidFill>
              <a:latin typeface="Palatino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Annotate generously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Criteria should not be too stringent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Label the ambiguous and atypical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Define a “problematic” category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-2286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Use a CV to describe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latino"/>
              </a:rPr>
              <a:t>Devise a confidence-rating system or an evidence tally system</a:t>
            </a: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"/>
            </a:endParaRPr>
          </a:p>
          <a:p>
            <a:pPr lvl="1" marL="594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17360"/>
            <a:ext cx="838224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11T20:07:26Z</dcterms:created>
  <dc:creator>William M. Gelbart</dc:creator>
  <dc:description/>
  <dc:language>en-US</dc:language>
  <cp:lastModifiedBy>William M. Gelbart</cp:lastModifiedBy>
  <dcterms:modified xsi:type="dcterms:W3CDTF">1970-01-14T13:55:46Z</dcterms:modified>
  <cp:revision>13</cp:revision>
  <dc:subject/>
  <dc:title>Drosophila reannotation: Lessons learned</dc:title>
</cp:coreProperties>
</file>